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3506-F1A9-44BA-8375-84D76B01B744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A7B0-F510-4965-9B74-02B3F9A65E6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87E7-E322-4776-B63B-C09683CABC5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oviding access to your dat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Tracking Data Usage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1"/>
          <p:cNvSpPr/>
          <p:nvPr/>
        </p:nvSpPr>
        <p:spPr>
          <a:xfrm>
            <a:off x="3559680" y="932184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5"/>
          <a:stretch/>
        </p:blipFill>
        <p:spPr>
          <a:xfrm>
            <a:off x="11773080" y="9298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cientific data can be used for various purposes in addition to those initially planned by the investigators who originally collected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ew products, such as maps, can be created and distribu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y be integrated with other data to create new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udies may be published about the use of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olicies, plans, and reports may result from using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ing the use of scientific data identifies how the data have been used, can reveal benefits and impacts of their use, and can justify previous and future data effor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producers, distributors, stewards, and sponsors need to know how the data have been used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ducers can determine whether the data are useful to oth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 will learn which communities the data are serv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ewards can document the data with descriptions of prior 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ponsors can justify the costs of the effort and demonstrate the potential value of sponsoring future effor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wareness of how data have been used may identify opportunities for new data collection and distribution effort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ing data usage can justify the effort of collecting data and of developing and distributing data products or servic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vidence of beneficial data use demonstrates accomplishments for those who contributed to the effort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scribing tracked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may be describe in terms of  users, such as discipline (oceanography, geology, etc.) or level of expertise (graduate students, experienced climate scientists, etc.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s of the data can be categorized by purposes, such as scientific research, education, policy-making, and plann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ing uses of similar data should inform initial data development and dissemination 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valuation of past and current uses should inform enhancements for data products and related services and can be used to identify the impacts of the 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tracking data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rics for access and support (describe in privacy policy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eb metrics (initial and repeat visitors’ page visits, download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ct information provided during requests for assista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gistr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est contact information from recipients of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 surveys (with approval of ethics boa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minister questionnaires to visitors of data web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ations – provide a recommended citation for data and subscribe to alerts from publish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ublished scientific literature (articles, book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gray literature (presentations, reports, blog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opular media (magazines, newspapers, radio, television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en, R. S. &amp; Downs, R. R. 2010. Evaluating the Use and Impact of Scientific Data. NFAIS Workshop on Assessing The Usage and Value of Scholarly and Scientific Output: An Overview of Traditional and Emerging Metrics. Philadelphia, PA. Nov. 10, 2010 http://info.nfais.org/info/ChenDownsNov10.pdf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etermining your audie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roadening your user communit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R Downs</cp:lastModifiedBy>
  <dcterms:modified xsi:type="dcterms:W3CDTF">2011-12-03T05:10:18Z</dcterms:modified>
  <cp:revision>71</cp:revision>
  <dc:subject/>
  <dc:title>ESIP Federation 101</dc:title>
</cp:coreProperties>
</file>